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72288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2B3-81EF-46B1-B8A9-6F40C597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9F0-691D-4935-95D8-4DB906D7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03D-4442-4D37-93C1-8FC72A08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42C8-ADE8-45CC-8D2F-BB2E6618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E543-7D10-4725-9568-6ECDCCF8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7037-0A65-4103-AB2F-CC93E53F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5DD8-4C78-409A-A2BE-D0C3B234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E52B-2D11-45D0-A782-75602AAF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67B2-A199-471D-88A1-BE3F07BD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1EB5-2043-4B40-A007-AD8A9369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3898-B865-49AE-AFA6-ADD2A0DB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0CA-43AA-49F4-B9C6-8C209DFE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CF2C-DE4D-4371-88DF-ED3AF89D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F8CB-A7DE-4BD5-B932-3760DC0D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AF38-847F-4F7B-B557-753C095F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F1C6-7806-43DC-A024-E8957E36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71AF-0258-40F6-B12A-5CFCFBB7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A5C-6846-4A26-BA61-CC5032D2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DC2-27CE-464A-B7DD-8BB968E3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5F5-B28E-4376-A838-5C06E9C8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807-4AB6-4C5B-82A5-2605D613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58E-3DD9-4E5D-8891-EFF7ED4A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646-F697-492F-908D-1D1C7533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859-63FC-4232-9391-E05E2D7E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37CF-7190-413A-BE86-818349C1479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F481-521B-4E16-8446-C2F0DDF53F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510920"/>
            <a:ext cx="76327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грамма по профилактике наркомани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Уберечь от дурмана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коголь, никотин, наркотики. Извечные и коварнейшие враги человечества. Значительная его часть находится в рабстве у этих веществ, недаром называемых дурманом, зельем, отравой. И число  плененных ими – по статистическим данным, не уменьшаетс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грамма должна способствовать формированию ответственности за свое собственное здоровье. Информационные, просветительные и воспитательные меры должны осуществляться в комплексе с профилактическим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687060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Цель программы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: формирование здоровых установок и навыков ответственного поведения, снижающих вероятность приобщения к употреблению наркотиков, табака, алкоголя и других психоактивных веществ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адачи программы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доставить учащимся объективную, соответствующую возрасту информацию о наркотиках, табаке и алкогол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ить детей лучше понимать самих себя и критически относиться к собственному поведению, способствовать к стремлению детей понять окружающих и анализировать свое отношение к ни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ить детей делать здоровый выбор и принимать ответственное реш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403280" y="2133720"/>
            <a:ext cx="6688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лубная деятельност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18920" y="4508280"/>
            <a:ext cx="68706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 помощью которой происходит реализация программы ЗОЖ «Уберечь от дурман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 формировании клуба необходимо учесть правила клуб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нимательно слушай говорящего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критикуй говорящего, чтобы он ни сказа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не хочешь говорить, можешь промолчать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носись к другим так, как ты хочешь, чтобы другие относились к т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лан создания клуб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ор учащихся 8 класса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бор актива клуб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бор названия, девиза клуб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знакомление с планом мероприятий деятельности клуб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6:31:21Z</dcterms:created>
  <dc:creator>Цырма Михайловна</dc:creator>
  <dc:description/>
  <dc:language>en-US</dc:language>
  <cp:lastModifiedBy>Цырма Михайловна</cp:lastModifiedBy>
  <dcterms:modified xsi:type="dcterms:W3CDTF">2010-11-30T15:21:02Z</dcterms:modified>
  <cp:revision>3</cp:revision>
  <dc:subject/>
  <dc:title>Программа ЗОЖ</dc:title>
</cp:coreProperties>
</file>